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BD5C-A878-4F98-A49D-793A1FBF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6C1-507D-4D2C-8DA4-2AE01326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83B-B6BD-4519-B363-F708D6D4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31E-6CE2-45B5-9AA4-5D39ADF4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4A83-108C-47DC-8A9C-C5C67183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EEE2-9B79-4E74-9CA2-6AD771ED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8E12-41C3-406F-AA8D-7BBF9402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494C-037F-4AD4-96FF-C235086F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6BC5-5055-4F9B-A18B-ABFFA6FA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A880-9AFD-4867-BB98-90D84D26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8203-DA8E-4CCD-9784-58AC8565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7FA-43B9-415E-A1B6-BD2E1D76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4C47-2834-4705-A9C7-26BBFD7A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4A54-9261-4ED4-A121-2D0901B6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19ED-A520-4F29-AB70-FAD28038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F331-807F-4C3D-BFC5-FA147E17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DCDB-0B71-4E32-B55F-6552EAE0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D2BA-5594-408B-80D6-43FC346D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9857-9C84-4B12-ABE1-AD93D0D9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BE26-EF8E-43D4-8881-42DD2D64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0F5C-8D49-48EE-90CC-C9A6F1E9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DE0-7A58-4E0E-8772-3D589C32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C095-035E-4709-A61E-06DEA7FC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40D-607B-4CA4-A611-B86D0735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C813-A68B-4ACF-B95C-D0C62CEA180A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8E20-6EF5-4F00-89C6-9EBD5E55DE34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9400" y="160200"/>
            <a:ext cx="7848720" cy="227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TITLU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2590920"/>
            <a:ext cx="777240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ECHIPA DE PROI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Nume, prenume</a:t>
            </a:r>
            <a:r>
              <a:rPr b="1" lang="ro-RO" sz="24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Clasa, </a:t>
            </a:r>
            <a:r>
              <a:rPr b="1" lang="ro-RO" sz="2400" spc="-1" strike="noStrike">
                <a:solidFill>
                  <a:srgbClr val="800000"/>
                </a:solidFill>
                <a:latin typeface="Times New Roman"/>
              </a:rPr>
              <a:t>şcoal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19044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914400" y="2133720"/>
            <a:ext cx="78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196666"/>
                </a:solidFill>
                <a:latin typeface="Times New Roman"/>
              </a:rPr>
              <a:t>Întrebarea de unita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838080" y="1752480"/>
            <a:ext cx="7656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914400" y="380880"/>
            <a:ext cx="78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196666"/>
                </a:solidFill>
                <a:latin typeface="Times New Roman"/>
              </a:rPr>
              <a:t>Obiectivele proiectulu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838080" y="1752480"/>
            <a:ext cx="7656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65080" y="1752480"/>
            <a:ext cx="82789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Obiectiv 1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Obiectiv 2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Obiectiv 3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914400" y="380880"/>
            <a:ext cx="78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196666"/>
                </a:solidFill>
                <a:latin typeface="Times New Roman"/>
              </a:rPr>
              <a:t>Obiectivul 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838080" y="1752480"/>
            <a:ext cx="7656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865080" y="1752480"/>
            <a:ext cx="713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Text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Imagine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ltele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914400" y="380880"/>
            <a:ext cx="78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196666"/>
                </a:solidFill>
                <a:latin typeface="Times New Roman"/>
              </a:rPr>
              <a:t>Obiectivul 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838080" y="1752480"/>
            <a:ext cx="7656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865080" y="1752480"/>
            <a:ext cx="713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Text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Imagine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ltele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914400" y="380880"/>
            <a:ext cx="78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196666"/>
                </a:solidFill>
                <a:latin typeface="Times New Roman"/>
              </a:rPr>
              <a:t>Obiectivul 3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838080" y="1752480"/>
            <a:ext cx="7656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865080" y="1752480"/>
            <a:ext cx="713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Text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Imagine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ltele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914400" y="380880"/>
            <a:ext cx="78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196666"/>
                </a:solidFill>
                <a:latin typeface="Times New Roman"/>
              </a:rPr>
              <a:t>Concluzi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838080" y="1752480"/>
            <a:ext cx="7656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865080" y="1752480"/>
            <a:ext cx="713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533520" y="16002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09480" y="1752480"/>
            <a:ext cx="8534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62120" y="1676520"/>
            <a:ext cx="754380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7621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09480" y="1905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85800" y="380880"/>
            <a:ext cx="78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6666"/>
                </a:solidFill>
                <a:latin typeface="Times New Roman"/>
              </a:rPr>
              <a:t>Bibliografi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3:58:23Z</dcterms:created>
  <dc:creator>Sergiu</dc:creator>
  <dc:description/>
  <dc:language>en-US</dc:language>
  <cp:lastModifiedBy>Eu</cp:lastModifiedBy>
  <dcterms:modified xsi:type="dcterms:W3CDTF">2010-12-28T15:27:09Z</dcterms:modified>
  <cp:revision>403</cp:revision>
  <dc:subject/>
  <dc:title>Evaluare_initiala</dc:title>
</cp:coreProperties>
</file>